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1DB-2E5F-4F66-AA5B-BFDE43EB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FD4-5E35-437A-954D-8B21C00D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4AB-46EE-4FAC-966C-EEB12E82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E7A-6EA8-44A8-9F50-7F0C305B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45BE-FCA6-4A1C-B2C4-0F67B0D7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C022-DA1C-441D-B407-E16F891E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2143-4100-4DD9-872C-D5DBA3A1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E92D-89B8-4E8A-BD66-B47BA8E4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52FF-D9BA-4C54-859C-82FBADE7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6011-F79A-470B-831D-5CD63F97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94C6-AC05-4D46-A507-7FCAD08A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EB3-B9F5-4968-9DDC-95882AD0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DFA0-9808-4CC8-A5E0-2ACAC12E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BD6E-C375-4E79-99D0-A97BFA0D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195C-4025-4F85-BD92-7026BE40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17D0-54A9-4364-877B-9F5A1699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6EDA-8D98-4FA0-9136-E9FD5B7A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51F-C844-4572-B2CD-EA5A06A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103-0D48-45FE-BD83-C784A38B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EAA-9902-414F-A4CE-53F5587C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EF8-C06F-46F7-B28A-8F93FD89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E62-E5DA-4160-A9BF-84B27432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B56-4467-4AA1-8992-1F603E1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8A0-AC38-4F5E-A290-9830877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6060-C199-4DFA-A46F-748B5CA4F8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4701-067C-4C2F-8C74-23770D74D7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4800" y="1905120"/>
            <a:ext cx="566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Lesson     Seve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Too L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387360" y="0"/>
            <a:ext cx="8434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was waiting at the airpo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How long were they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was the parcel full of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was it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Why did they think some thieves wou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y to steal the diam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Where were other detectives wai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Who took the parcel off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Where did they carry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Who was keeping guard at the do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Who opened the parc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379080" y="0"/>
            <a:ext cx="100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ne--- late---detectives--- wa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xpecting--- paecel--- South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arlier--- told--- police--- thie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When--- arrived--- some--- main building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thers--- air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Two men--- parcel--- carried---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Two--- guard--- door --- others ope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Surprise --- parcel--- stones---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0280" y="15228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to 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were waiting at the airport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ning. They were expecting a valuab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cel of diamonds from South America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men took the parcel into the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use after the arrival of the plane.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opened it. The parcel was fu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nes and sa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52560" y="304920"/>
            <a:ext cx="410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待，盼望 常用于进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在等她的信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在盼望约翰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3480" y="121932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We were expecting a letter from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720" y="20574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I’m expecting John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9920" y="2514600"/>
            <a:ext cx="399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  sb  to do sth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预料他考试通不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没料到会有这么多人来参加会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960" y="3276720"/>
            <a:ext cx="59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I expected him to fail the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e weren’t expecting so many people to 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o the pa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0200" y="828720"/>
            <a:ext cx="486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eep /stand guar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站岗，放哨，警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他们在给这所房子放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士兵们对囚犯严加防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将军的帐篷周围有士兵警戒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2160" y="1676520"/>
            <a:ext cx="60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y are keping guard over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7400" y="2505240"/>
            <a:ext cx="62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soldiers kept a close guard on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4320" y="3886200"/>
            <a:ext cx="70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re were soldiers standing guard rou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general’s 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857160"/>
            <a:ext cx="797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 + one’s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感名词，表示满意“使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感到） …的是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one’s joy /surprise /sadness /del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great surprise, we w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the surprise of everyone, his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cc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To his great joy, he passed the exam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2320" y="177840"/>
            <a:ext cx="9184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进行时： 用来表示过去某个时刻正在进行的行为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，这动作通常要持续一段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常与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hen,while, or as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连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). When /While /As I was watering the garden, it bega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).Someone knocked at my door when I was having a b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2.when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可引导两个句中的任何一个，而其他两者却不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arrived when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n John arrived,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3.while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引出两个同时进行，持续世间较长的两个平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ile Tom was reading,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m was reading while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11:36:53Z</dcterms:created>
  <dc:creator/>
  <dc:description/>
  <dc:language>en-US</dc:language>
  <cp:lastModifiedBy>tyz</cp:lastModifiedBy>
  <dcterms:modified xsi:type="dcterms:W3CDTF">2003-04-05T03:43:32Z</dcterms:modified>
  <cp:revision>9</cp:revision>
  <dc:subject/>
  <dc:title>PowerPoint 演示文稿</dc:title>
</cp:coreProperties>
</file>